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D2B-2BF5-4916-ABF7-A99E349A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A34-133E-4293-8C56-C7F3FAED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9E3-CC6B-4691-9229-EFAECD66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29C-D130-48AD-90E3-8689BA28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E1A-E11A-4215-A9B8-CC1CE4F1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0B8-E4A2-4F9B-A133-83549986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53E-02F3-4D43-A3FE-7C1BCD38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6B2-1EDF-4FFF-B15C-54985762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ED8-7530-46AB-86E0-017A023A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CC8-310E-4665-9C1F-1AF5229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CEB-EA65-4E05-AB8B-63B7F3C8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2E7-BC58-4F7E-901E-B1DE7988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8A95-8D12-451E-84E1-C2076ECEF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yo ped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pid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vosotros encontr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encontr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  <a:ea typeface="Arial"/>
              </a:rPr>
              <a:t>é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Pepe resolv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esuelv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l cont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cuen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nosotras repe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epit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yo segu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sig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Pamela y yo serv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sirv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él reírs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se r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  <a:ea typeface="Arial"/>
              </a:rPr>
              <a:t>í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nosotros men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mint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 adverti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advier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nosotros divertirs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59092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os divirt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ellos cerr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cierren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62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mi mam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á y yo volve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volv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52280" y="762120"/>
            <a:ext cx="9296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Lorena y yo dormirs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9092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nos durma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76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7600" spc="-1" strike="noStrike">
                <a:solidFill>
                  <a:srgbClr val="000000"/>
                </a:solidFill>
                <a:latin typeface="Arial"/>
                <a:ea typeface="Arial"/>
              </a:rPr>
              <a:t>ú rogar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ruegu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3:24:09Z</dcterms:created>
  <dc:creator>jbarber</dc:creator>
  <dc:description/>
  <dc:language>en-US</dc:language>
  <cp:lastModifiedBy>jbarber</cp:lastModifiedBy>
  <dcterms:modified xsi:type="dcterms:W3CDTF">2009-02-11T17:12:51Z</dcterms:modified>
  <cp:revision>4</cp:revision>
  <dc:subject/>
  <dc:title>Slide 1</dc:title>
</cp:coreProperties>
</file>